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50E-CDB3-4384-8CA6-794DA509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9A4-AA0F-4ED4-A498-3AB96919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B87-01E8-4F50-A500-78671632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731-B890-4E25-B691-46AF9C7C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73B-6FC7-4736-8C2A-EA3DEE45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6B8-7A22-4929-B925-534AEA40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C91-9629-42D2-AD20-5F6DFFC7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029-3904-4809-9185-07E4D2EB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D86-B572-4604-953E-85DB1C8E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CCD-6CF3-46A5-85FF-9FA2008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861-E690-489E-83F0-05D4A50F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DD8-AAC5-47D7-9F2B-5375242F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792B-8D01-4652-A04A-9374EB102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乘除运算（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89000"/>
            <a:ext cx="8569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应用运算定律使计算简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75×102                         1.2×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.74×1.8-1.8×1.74         351×73+351×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79280" y="26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484360" y="32702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39640" y="32464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.75×1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50920" y="3894120"/>
            <a:ext cx="41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0.75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00+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0.75×100+0.75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75+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7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932360" y="32814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2×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789440" y="3933720"/>
            <a:ext cx="3527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1.2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5×0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2×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6×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75640" y="328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50920" y="26028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自然数的和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7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除以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商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余数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各是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84360" y="17002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除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商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余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所以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=6×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+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2800" y="24242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619280" y="3068640"/>
            <a:ext cx="324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×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+3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+3=1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580000" y="3068640"/>
            <a:ext cx="259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6×24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2197080" y="5364000"/>
            <a:ext cx="48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4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619280" y="2421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250920" y="40176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某超市有一种长方形箱子能装下酸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瓶，现在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个这样的箱子，一共能装下酸奶多少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39640" y="242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084720" y="2421000"/>
            <a:ext cx="2664000" cy="1441440"/>
          </a:xfrm>
          <a:prstGeom prst="wedgeRectCallout">
            <a:avLst>
              <a:gd name="adj1" fmla="val -39509"/>
              <a:gd name="adj2" fmla="val 9680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列竖式，直接算出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0"/>
          <p:cNvGrpSpPr/>
          <p:nvPr/>
        </p:nvGrpSpPr>
        <p:grpSpPr>
          <a:xfrm>
            <a:off x="3276720" y="2637000"/>
            <a:ext cx="2735280" cy="3431520"/>
            <a:chOff x="3276720" y="2637000"/>
            <a:chExt cx="2735280" cy="3431520"/>
          </a:xfrm>
        </p:grpSpPr>
        <p:sp>
          <p:nvSpPr>
            <p:cNvPr id="154" name="Text Box 7"/>
            <p:cNvSpPr/>
            <p:nvPr/>
          </p:nvSpPr>
          <p:spPr>
            <a:xfrm>
              <a:off x="3276720" y="2637000"/>
              <a:ext cx="2735280" cy="34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8"/>
            <p:cNvSpPr/>
            <p:nvPr/>
          </p:nvSpPr>
          <p:spPr>
            <a:xfrm>
              <a:off x="3348000" y="3933720"/>
              <a:ext cx="129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9"/>
            <p:cNvSpPr/>
            <p:nvPr/>
          </p:nvSpPr>
          <p:spPr>
            <a:xfrm>
              <a:off x="3348000" y="5373360"/>
              <a:ext cx="129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1"/>
          <p:cNvSpPr/>
          <p:nvPr/>
        </p:nvSpPr>
        <p:spPr>
          <a:xfrm>
            <a:off x="1978200" y="6162840"/>
            <a:ext cx="57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一共能装下酸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539640" y="11304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解法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6659640" y="549360"/>
            <a:ext cx="2179440" cy="1511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把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看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×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987640" y="1554120"/>
            <a:ext cx="345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×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×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×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3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×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3×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978200" y="5877000"/>
            <a:ext cx="53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一共能装下酸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611280" y="1268280"/>
            <a:ext cx="23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法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6357960" y="404640"/>
            <a:ext cx="2751120" cy="2376720"/>
          </a:xfrm>
          <a:prstGeom prst="wedgeEllipseCallout">
            <a:avLst>
              <a:gd name="adj1" fmla="val -66962"/>
              <a:gd name="adj2" fmla="val 3343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把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看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00÷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看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×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38280" y="1847880"/>
            <a:ext cx="5410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×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×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00÷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×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÷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300×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438280" y="5813280"/>
            <a:ext cx="55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一共能装下酸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整数乘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2060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先用一个因数每一位上的数分别去乘另一个因数各个数位上的数，用因数哪一位上的数去乘，乘得的数的末尾就对齐哪一位，然后把各次乘得的数加起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057400" y="1447920"/>
            <a:ext cx="39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246×30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8"/>
          <p:cNvSpPr/>
          <p:nvPr/>
        </p:nvSpPr>
        <p:spPr>
          <a:xfrm>
            <a:off x="4879800" y="1447920"/>
            <a:ext cx="15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750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矩形 5" descr=""/>
          <p:cNvPicPr/>
          <p:nvPr/>
        </p:nvPicPr>
        <p:blipFill>
          <a:blip r:embed="rId1"/>
          <a:stretch/>
        </p:blipFill>
        <p:spPr>
          <a:xfrm>
            <a:off x="231840" y="0"/>
            <a:ext cx="36576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整数除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8000" y="133992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先从被除数的高位除起，除数是几位数，就看被除数的前几位； 如果不够除，就多看一位，除到被除数的哪一位，商就写在哪一位的上面。如果哪一位上不够商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，要补“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0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”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占位。每次除得的余数要小于除数。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411280" y="650880"/>
            <a:ext cx="34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876÷3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5108040" y="6094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1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2"/>
          <p:cNvSpPr/>
          <p:nvPr/>
        </p:nvSpPr>
        <p:spPr>
          <a:xfrm>
            <a:off x="2195640" y="404640"/>
            <a:ext cx="10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3637080" y="3808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341964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3059280" y="3429000"/>
            <a:ext cx="41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197964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0" descr="j028277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0080" y="4665600"/>
            <a:ext cx="2293920" cy="21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965880" y="3668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数乘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503280" y="1712880"/>
            <a:ext cx="82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d0d0d"/>
                </a:solidFill>
                <a:latin typeface="Times New Roman"/>
                <a:ea typeface="宋体"/>
              </a:rPr>
              <a:t>先按照整数乘法的计算法则算出积，再看因数中共有几位小数，就从积的右边起数出几位，点上小数点；如果位数不够，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Times New Roman"/>
                <a:ea typeface="宋体"/>
              </a:rPr>
              <a:t>用“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  <a:ea typeface="宋体"/>
              </a:rPr>
              <a:t>0</a:t>
            </a:r>
            <a:r>
              <a:rPr b="1" lang="zh-CN" sz="4400" spc="-1" strike="noStrike">
                <a:solidFill>
                  <a:srgbClr val="0d0d0d"/>
                </a:solidFill>
                <a:latin typeface="Times New Roman"/>
                <a:ea typeface="宋体"/>
              </a:rPr>
              <a:t>”</a:t>
            </a:r>
            <a:r>
              <a:rPr b="1" lang="zh-CN" sz="4400" spc="-1" strike="noStrike">
                <a:solidFill>
                  <a:srgbClr val="0d0d0d"/>
                </a:solidFill>
                <a:latin typeface="Times New Roman"/>
                <a:ea typeface="宋体"/>
              </a:rPr>
              <a:t>补足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052720" y="90792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Times New Roman"/>
                <a:ea typeface="宋体"/>
              </a:rPr>
              <a:t>0.012×1.4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2"/>
          <p:cNvSpPr/>
          <p:nvPr/>
        </p:nvSpPr>
        <p:spPr>
          <a:xfrm>
            <a:off x="5334120" y="91440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Times New Roman"/>
                <a:ea typeface="黑体"/>
              </a:rPr>
              <a:t>0.01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79280" y="18900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+mn-ea"/>
              </a:rPr>
              <a:t>小数除法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+mn-ea"/>
              <a:ea typeface="+mn-e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08000" y="2492280"/>
            <a:ext cx="892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按照整数除法的法则去除，商的小数点要和被除数的小数点对齐；如果除到被除数的末尾仍有余数，就在余数后面添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继续除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692360" y="13413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宋体"/>
              </a:rPr>
              <a:t>3.38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÷5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4419720" y="1371600"/>
            <a:ext cx="19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0.0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71280" y="28368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分数乘法的计算法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79280" y="1623960"/>
            <a:ext cx="827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乘整数，用分数的分子和整数相乘的积作分子，分母不变。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755640" y="45766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55640" y="46483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55640" y="37130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332000" y="40734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×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700360" y="40734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4500720" y="40719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6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5724360" y="45036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5797440" y="464832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5797440" y="36399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373800" y="41450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360" y="549360"/>
            <a:ext cx="426708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乘分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755640" y="4241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55640" y="424188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62120" y="3348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332000" y="388152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050920" y="4241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050920" y="43131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050920" y="33764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627280" y="388152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140360" y="39528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4645080" y="4384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4645080" y="43434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4645080" y="352116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5219640" y="39528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5867280" y="4024440"/>
            <a:ext cx="6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6299280" y="4384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6372360" y="43434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6299280" y="352116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877080" y="40244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755640" y="1498680"/>
            <a:ext cx="76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分子相乘的积作分子，分母相乘的积作分母。有带分数的，先把带分数化成假分数，然后再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155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分数除法的计算法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9280" y="106380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imes New Roman"/>
                <a:ea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甲数除以乙数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），等于甲数乘乙数的倒数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611280" y="4016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84360" y="40165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84360" y="315288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16000" y="35845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692360" y="35845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124000" y="36561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3706920" y="39466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81280" y="39528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657600" y="31910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4282920" y="358452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>
            <a:off x="5003640" y="39466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5003640" y="401652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5075280" y="30798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5580000" y="358452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98560" y="505296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1330200" y="54864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403280" y="4765680"/>
            <a:ext cx="4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762200" y="49816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411280" y="50529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2843280" y="548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843280" y="54864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843280" y="46944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419640" y="505296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044720" y="333360"/>
            <a:ext cx="705636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在           里填上适当的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48÷0.6=               ÷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÷0.005=               ÷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2÷7.5 =               ÷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.8÷8.4=               ÷84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484360" y="692280"/>
            <a:ext cx="12956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357800" y="1928880"/>
            <a:ext cx="1295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429080" y="3068640"/>
            <a:ext cx="1295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429080" y="5214960"/>
            <a:ext cx="1295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429080" y="4143240"/>
            <a:ext cx="129528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572000" y="17859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429080" y="29289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572000" y="40006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9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429080" y="50720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02:31Z</dcterms:created>
  <dc:creator/>
  <dc:description/>
  <dc:language>en-US</dc:language>
  <cp:lastModifiedBy/>
  <dcterms:modified xsi:type="dcterms:W3CDTF">2015-04-08T11:02:36Z</dcterms:modified>
  <cp:revision>1</cp:revision>
  <dc:subject/>
  <dc:title/>
</cp:coreProperties>
</file>